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518-C988-498D-A40F-4B1185AD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E06-1C98-4D95-8F29-B13055A7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FCE-9315-4697-A12E-F4CF68C6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641-4323-497C-8D49-C5D9E4D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97C-66F7-41EC-A1E9-83443B23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0BB-6F59-4ACD-ADD4-06301060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EC8-1670-478E-9C52-6F726CE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D17-D0F2-412A-BC49-5D7CF2A0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AC6-2763-45A2-B0B1-99F0A1A3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8AC-935F-4C60-B7D0-036E4031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B9A-E3C0-4C3B-815A-FE9F0C0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6DB-932D-4E25-93A0-EAC6485B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2EB4-D5D4-4938-B165-14DEB7E1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mple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ick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sentences must have three thing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complet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bj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out the action or state of the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arg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lik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ce c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 complete idea, you leave some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ovie. (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?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one independent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ord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ntence order goes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dditional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nformation can te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y s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n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t the mov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ith a man who isn’t her hus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ecause her divorce was just fin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ditional information can be placed in front of the subject, and when it is, it’s usually offset by a com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night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sister at the mov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ecause her divorce is finalized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y s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movies last night with a man who isn’t her hus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nfortunately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h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d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ubject and verb. Also, identify what type of additional information is inclu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ready quickly in the morning, I wash my hair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arents went to Paris and saw the Mona Lisa last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in the pocket of the couch, my cat digs for her favorit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going to the dentist, the patient has taken some anti-anxiety me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ositional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sitions are generally small words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, on, at, with, for, of,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ppear at the beginning of noun phrases (the dog, an umbrella, the desk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include the subject of the sentence (but they can stand in between the subject and the ver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give additiona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gir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that basketball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rapp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 my neighb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l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three small dogs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y m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ract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ubject and the verb. Also identify prepositional phrases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use in the canyon between those two mountains never gets any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s from New York at the club last night refused to dance with any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s around my house cause serious allergy problems for me in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e the mailman on that motor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3:07:43Z</dcterms:created>
  <dc:creator>SCE ESL PROGRAM</dc:creator>
  <dc:description/>
  <dc:language>en-US</dc:language>
  <cp:lastModifiedBy>SCE ESL PROGRAM</cp:lastModifiedBy>
  <dcterms:modified xsi:type="dcterms:W3CDTF">2012-03-14T22:59:12Z</dcterms:modified>
  <cp:revision>11</cp:revision>
  <dc:subject/>
  <dc:title>The Simple Sentence</dc:title>
</cp:coreProperties>
</file>